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3.gif" ContentType="image/gif"/>
  <Override PartName="/ppt/media/image11.wmf" ContentType="image/x-wmf"/>
  <Override PartName="/ppt/media/image15.wmf" ContentType="image/x-wmf"/>
  <Override PartName="/ppt/media/image1.wmf" ContentType="image/x-wmf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10.png" ContentType="image/png"/>
  <Override PartName="/ppt/media/image5.wmf" ContentType="image/x-wmf"/>
  <Override PartName="/ppt/media/image6.jpeg" ContentType="image/jpeg"/>
  <Override PartName="/ppt/media/image7.wmf" ContentType="image/x-wmf"/>
  <Override PartName="/ppt/media/image12.wmf" ContentType="image/x-wmf"/>
  <Override PartName="/ppt/media/image14.png" ContentType="image/png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95B1-C8BD-4F55-9207-6A2472807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295B-075C-4BD6-B494-8EDACD9D9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60323F-D470-45D5-91D7-ADCEA86D5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9E708C-7D1A-4120-A739-C35263039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8DEC97-D8B2-40E6-831D-81CC42688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12EC6B-43FE-4B5F-82ED-5A4DD9945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6296CF-2B50-4838-8BC6-923EAF50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9A7D41-3CC3-46A6-98F3-6CB49889C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E17729-3D20-430C-85B7-D74C8A839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8E2D40-B573-43DE-9481-EECC21C61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F5EA92-39B1-4BD7-A3A6-805DE155A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8624E9-84F3-40F6-BBFB-FE5D06160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A441-3B03-48A7-BE32-1E08048B4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4C9E8C-7AF7-4946-BAC1-CB15EB0F5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EB849F-7DC7-4E5A-9268-475BAB036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CB3EEE-D63F-4FEE-BD8C-AD56D419C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F7A581-B720-44D4-A601-F0E4510EA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A29F5F-25CD-44A6-AC99-421982166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CAD6E8-1B28-4137-9978-3F16B5115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5E35EE-CF41-49A7-8076-EB2E8601F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45B648-CB10-416F-BDB7-8DD568DA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19EC6C-953C-4F57-86AD-B2BE46EE2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366E51-D699-4B99-9886-A8CF33E12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EA2D-F63B-4B0A-A905-3FBB4149B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D900B4-92E1-4604-8D10-DF85A84AF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995E1B-7840-4D6D-979A-6EACCDA48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790267-74D4-4D0F-8D8C-5C82F78D0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016293-F2B2-4B2C-A47D-EF6808A25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D3FA43-B184-44F9-A512-330DB3287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7E7EE2-CAA1-4266-8379-63E909EE8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3EC5EF-D7D6-43AC-AFB4-E9E2D94F8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D9CD6C-0B6B-4461-A693-CF3A8828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D564F0-F40F-49DA-819F-E61523C9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CC2775-0D74-4759-AD61-B2D474EE9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75E0C-D11D-47E2-8E8F-B977320AD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10F607-D357-4AD3-BD23-853F0B75D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22F05B-D1FA-4E58-B235-93D0DB911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0BA595-58FF-4F85-A913-FDCD16627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067B84-1268-43F9-ADC9-7262F2978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A4DA3F-E674-48E8-A7B4-127CA25A4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91CD4B-0F3B-4DED-82E8-F299C5028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A6654A-9C57-4A80-85C6-79480617A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2CC5A5-31FB-401D-8747-47A7489CE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9E8EF3-9122-4226-8857-925E0D21C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99083C-C6CE-42B5-BA4E-609D9C1F8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976F4-3101-4829-87C6-A20DD1D5A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D823B1-6BFF-47AE-B9C3-E2718BE36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6D9E70-6A14-40C4-8CB9-A59C43F63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32C5EE-78FA-473C-B0D8-FF72FF138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1E360A-A690-42C9-A3F8-97F976796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393732-4625-44AD-A993-BE99CBBDA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B3726E-34D4-4B59-93DC-3804C39A4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362604-B81F-4C7B-BC05-672B5DC8A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4D8804-59E7-4F40-82FB-7091F0A78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7CDB08-F82C-4F5E-881C-3131F1F6A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302E48-9BBB-4B57-9A03-996E799FE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2B411-7DE7-4298-8D9D-2CD207914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4B9410-7955-4A5A-86F8-2D6F7B4BA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D3C48E-ADE8-42A3-82C9-911997935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79007C-909B-4DC6-BB0D-41A6A9AD1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EE12E7-17DF-434C-8A5C-47498D7F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C2E116-0BBE-4918-92B4-D8BC29746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1BA368-28C3-4DC0-9A73-DB9010715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624995-879E-4A7F-9A7A-77E5A79E2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897E0C-29BA-491B-833F-0D92FC925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AB5B55-626A-4708-B0F3-321F9AF67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3E5089-3694-4B31-8DB4-B0258550D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98AD8-2B25-405E-A713-3CCAF862D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659F17-AE23-4CD0-A4E0-E0298E981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6689C1-D2D3-4FDC-8583-FF833D1F5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A474B9-0CE6-4C06-B07A-599B1B6DD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33ED3F-9044-49F9-8D83-387F0019D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B3FF48-09AB-498C-A0DC-D7310AB8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34A798-13BD-4929-BB15-C7AD6FF47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A9FFB9-9991-49BE-BCAC-E714A4ACA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F780AD-C00E-48D9-87E5-2276D3FE4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FEF1F8-BA1E-4E3F-9CC6-4EE44226F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E5F9A2-5D7C-4985-85D2-2522F03E7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8DAD7-12E6-4F41-994B-6B14E9043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250D52-C0E5-4426-93B7-B31C22E6F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498FD5-770F-4CA8-86F6-CBA904543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AF185C-8955-42DD-B99B-7CA01FDE7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00BA7A-86BB-480E-BC85-3D9F6C1F9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AB7EF5-457F-42C6-BC6C-63F42782A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BC8B20-26B6-4F7B-AF1B-4FBF652A0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70BA2C-CFE4-4000-9450-F71FEFCEB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3C1EB2-7B7A-4977-B5EF-D39615D1B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C406A4-8BFC-4575-9484-91C6E8B60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861608-E267-480D-BDBB-218446EFD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0CA45-F7D6-4C0E-86DB-D25054960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FA88B6-D88C-4D7C-AE1E-465EFC507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8D9F5D-3A65-4110-9C01-4EC6C87FD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D4AAA5-3D08-4E63-A388-0846CFBDD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59D4AF-46D2-4967-A2E7-9C69D266E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B29191-B829-4BA8-A3F4-EA363140C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C94310-D8BD-4F68-A51C-137819226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68DECE-4C2D-4C5C-9E54-B8DA5518A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3FABB5-A0F2-4AC2-8121-3FFFC455B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10AD92-F74B-46AB-91AE-2E09FCF55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8A485A-10BC-49F7-9AFB-FF59F675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C7C4B-425C-456D-AD11-9805EE431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98559B-EB78-4B60-A3DD-EED61F134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C66F30-92BE-4D6E-A8F3-4C4B986FD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5E351E-EE04-4B20-ABA4-E6E5FE046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FED1-F354-40F6-A4C4-1350F752C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F45A2-7BC8-4710-9834-AA08B928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5CF3C-6555-4F90-8C43-5C4E4A754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B652E-7E77-4869-8E94-BDF6D8DF0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EA559-B6FD-4EB7-B529-A002795C0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F56BA-97E7-4F65-B779-9E7AFF84E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1B5D6-158A-4CD7-8187-1A1A6D729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B7E30-5403-4832-A06C-305A17782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3D34C-2C01-4DBC-AA96-5828788F5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81F5F-4A19-4210-A592-C274559D3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1ED61-0AA3-41A9-995C-8FAE7A4AD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68D3-4C50-45AA-B3FC-CE87CF7A0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BEAE9-F147-4790-829A-26B871C70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AA4AD-72FF-4F13-9C08-159D5EFA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FF35A-AAF3-403B-8006-D46882F97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AD90C-14EF-4BAC-8BC8-D15214241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35141-7EAF-44A2-B22C-3EA64C480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7F948-36C3-4ACD-A716-C5710125E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5196B-2333-4837-A18A-B6AB8739F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A1BC4-BE18-4B8C-83D5-C0D23390C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41F07-1291-4D35-B736-4866E6324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A0C58-E6BD-4098-A81C-6FA26C194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8178-EB23-4029-B404-20D2A8FF4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D7F5B-769F-49AD-ADC7-F9E257EAD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EE24E-EAE3-4E06-B76C-27E408875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1E844-B56B-449E-9352-AD549790B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E665F-5999-4E61-A7C7-CBDCE7FF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406A4-B999-432A-BEA1-3A6EF57E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982F5-F615-4946-9494-6A86431B3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FB242-B577-4D5B-B690-4D485449E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D920F-2386-4664-8B32-237024BBB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ADB50-802F-4B03-BB83-385832B73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5E1F77-458C-4E14-8155-94E0B96C0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6CE3-C585-4E8A-AA6C-DB3EA0415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8700AD-D4AF-4FF3-A6D1-CC1279D01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E0456B-CA3C-4992-99CE-06F71CF2C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F1CFD8-88DB-4C02-992D-E0A49F408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FF0E8-B0A9-4693-AF75-D84813025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A8C236-B734-4B47-932F-372F808B1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95CB9B-7D6A-49D1-9CC4-C172B5899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A7565-96F6-4E1D-9930-7B2803DCA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8B2D05-CAD8-4827-9501-C2D6FA21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8DCB6-8E65-462E-9316-6429F0A83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6AB35F-8C08-44A6-B184-F7FF07565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17FB-86A3-4CEC-B0EF-3E7828F11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A5056-54C0-4088-BEBB-44CF43578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2754D3-0DD8-4AFD-8AFE-BD3B7C392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96A7A0-A29D-4886-8DB4-DD2F44D63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4DDF57-51F0-4991-96CF-ED7121FE6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1F6764-9DB9-43CB-99B5-239CEA9DD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5FDBE-EB9C-4671-B7E8-EDE9CE5E3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0B6D7D-AB33-478E-8BB6-0888B13D0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6EE54D-A1D6-4A2B-B078-1B91EEA7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8958D4-90BD-4465-BF83-CDD3ABD4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0A9C16-EB4D-4F82-9500-5F3B5FFC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2CBE-8039-4E29-8EC8-FD6F2BB9D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5C4417-1127-45D4-B76B-0DC5EAD64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3035E6-2B97-48CB-B37F-7268C66CA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32C034-27CF-4F9B-BEEC-8A87F9D26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352BBA-E3EB-4A11-BBA3-175B68611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09C11E-7C19-4011-93BF-46F6842B2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D936B2-033D-4AE6-84E4-8B7414601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67CCD3-D051-4B0E-B1E0-B9EF68CA6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397E1D-8B10-45C4-A76E-1791CCFA5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F59CE9-8934-4AB2-8C72-46699D2DC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7074E9-F7B6-4AE5-BB4A-CD5DB0BD0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C6E6-CF90-4718-B804-AD73CB3FD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01094B-627E-4F7D-8E04-3D15EF87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1A6A5A-DA18-44AC-893E-079F3F9D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4C17E2-31E0-4D49-9FBA-0D2AE949E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CBEE33-DEA2-4292-925D-340174D35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7FC542-D4AA-458C-BD65-C5AA62435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185DEA-749C-4288-8D3A-0FBF8BE23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369EA2-F181-41D3-9E33-0FEB82D54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97E07C-B92C-4F51-B7AD-1915E9781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C474BC-C3B7-4B95-B012-CE347D405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C46A60-9C27-49C7-BCB8-B26A771DC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013D-C56A-4070-8860-ECFB26EA5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808609-D1D8-4E7E-964F-373EFB2C8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0F632A-61A9-4558-8D9D-3DFEE92E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D2E428-0A21-4FA6-917D-AE8FF360E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5EDB99-0BF1-477B-90BC-B19C20732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18CB37-2380-49B2-B1A7-8877ABBCE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AF61D4-A77C-4756-B89B-3745A2C3C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16522F-8FAB-4E86-9FD1-99634BE8C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868805-91EB-4A59-9A7C-0FDD4454E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1E70EF-32B4-4017-802F-24706E2F8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79C77A-8B82-4395-BCFB-18A43BD04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48B15-5B35-4EB8-B1C8-CA4E610F50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1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63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764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5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6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7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8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9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0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1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2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773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774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775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76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77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778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79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80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781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782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3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4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5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6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7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8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9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790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91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2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93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794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795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796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797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98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99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00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01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02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03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04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805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 type="dt" idx="2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 type="ftr" idx="2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 type="sldNum" idx="3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12D92-7041-453C-A506-E2AFB4DB7E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8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9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5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851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2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3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4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5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6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7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8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9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86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861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862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63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64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86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66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6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86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86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0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3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5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6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87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878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9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80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881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882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883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884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85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86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87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88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89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90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91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892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 type="dt" idx="3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 type="ftr" idx="3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 type="sldNum" idx="3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7F71D-60EE-429E-8C4B-1F208314B0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5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6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37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38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9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0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1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2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3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4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5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6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47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948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949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50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51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952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3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4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955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956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57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58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59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60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61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62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63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964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965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6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67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968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969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970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971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2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3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4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5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6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7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8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979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 type="dt" idx="3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 type="ftr" idx="3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4" name="PlaceHolder 5"/>
          <p:cNvSpPr>
            <a:spLocks noGrp="1"/>
          </p:cNvSpPr>
          <p:nvPr>
            <p:ph type="sldNum" idx="3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6A79F-D10D-43F8-BC0D-9E74D9FDAE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2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02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3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3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3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3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3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03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04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4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4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4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4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4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4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4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5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05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05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54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1055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105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057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105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59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60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61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62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63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6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65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06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dt" idx="3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 type="ftr" idx="3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 type="sldNum" idx="3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6BE6A-8A87-4C40-8098-0586DC5DD3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1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11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12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12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12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2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2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12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2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2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12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3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13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13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41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1142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114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144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1145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46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47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48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49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50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51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52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15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 type="dt" idx="4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 type="ftr" idx="4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 type="sldNum" idx="4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2C436-DEFE-40DB-A20A-916A54ADE8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9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19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20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20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21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1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1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21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21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21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1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1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2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2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2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2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2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22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2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22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122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123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23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123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3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3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3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3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3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3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3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24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 type="dt" idx="4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 type="ftr" idx="4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5" name="PlaceHolder 5"/>
          <p:cNvSpPr>
            <a:spLocks noGrp="1"/>
          </p:cNvSpPr>
          <p:nvPr>
            <p:ph type="sldNum" idx="4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6F197-6B27-4752-9729-7442A2ECCB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8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28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29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29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29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9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9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30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0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0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30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30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0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0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0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0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0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1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1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31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31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15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1316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131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318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1319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20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21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22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23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24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25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26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32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4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4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4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CB82F-613A-445F-AE3D-7C4F7824C0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D469F-5444-4BAB-A34E-2AC3C72D61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946BA-9974-49E3-8464-448E38A106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4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5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5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5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5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5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6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26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6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71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272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27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74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275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6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7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8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9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0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1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2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28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61D38-2617-4C52-9C50-43B09BAF1E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2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2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3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3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34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34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4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4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5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5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5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36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6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36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37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03B1F-151B-481A-8AB5-9013B03086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1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41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2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2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2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2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2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43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3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43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44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44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45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446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4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48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49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0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1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2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3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4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5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6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45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78ED2-E285-4BF8-9A00-24EA7D5273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0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1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51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51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51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2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52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52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53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32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533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53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35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536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7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8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9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0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1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2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3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4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E3A4F-B938-4582-BA06-0DF7E6CC28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8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9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9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0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60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0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0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61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61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19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620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62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22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62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4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5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6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7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8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30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63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1ABC3-D951-4DBA-89D7-F2D9733019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4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5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76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677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8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9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0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1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2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3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4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5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86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87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88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89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0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691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2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3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94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95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6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7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8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9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0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1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2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703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04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5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06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707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708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709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710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1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2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3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4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5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6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7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718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A6995-0ED5-405D-B032-FBE64F272E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8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8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evoile me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49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Cum putem trai confortabil      ?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71" name="Picture 7" descr="j0297551"/>
          <p:cNvPicPr/>
          <p:nvPr/>
        </p:nvPicPr>
        <p:blipFill>
          <a:blip r:embed="rId1"/>
          <a:stretch/>
        </p:blipFill>
        <p:spPr>
          <a:xfrm>
            <a:off x="5181480" y="2133720"/>
            <a:ext cx="2170080" cy="2871720"/>
          </a:xfrm>
          <a:prstGeom prst="rect">
            <a:avLst/>
          </a:prstGeom>
          <a:ln w="0">
            <a:noFill/>
          </a:ln>
        </p:spPr>
      </p:pic>
      <p:pic>
        <p:nvPicPr>
          <p:cNvPr id="1372" name="Bohemian_Rhapsody.mid" descr=""/>
          <p:cNvPicPr/>
          <p:nvPr/>
        </p:nvPicPr>
        <p:blipFill>
          <a:blip r:embed="rId2"/>
          <a:stretch/>
        </p:blipFill>
        <p:spPr>
          <a:xfrm>
            <a:off x="6553080" y="5562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373" name="Rectangle 9"/>
          <p:cNvSpPr/>
          <p:nvPr/>
        </p:nvSpPr>
        <p:spPr>
          <a:xfrm>
            <a:off x="4875840" y="6095880"/>
            <a:ext cx="351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ttp://rock.mididb.com/queen/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374" name="Object 10"/>
          <p:cNvGraphicFramePr/>
          <p:nvPr/>
        </p:nvGraphicFramePr>
        <p:xfrm>
          <a:off x="228600" y="4724280"/>
          <a:ext cx="914400" cy="714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75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724280"/>
                    <a:ext cx="914400" cy="7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9921" fill="hold"/>
                                        <p:tgtEl>
                                          <p:spTgt spid="13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259921" fill="hold"/>
                                        <p:tgtEl>
                                          <p:spTgt spid="13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ti cunosti nevoile 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49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re sunt nevoile care trebuie satisfacute de orice persoana 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re sunt nevoile legate de viata noastra in societate 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78" name="Picture 8" descr="j0199283"/>
          <p:cNvPicPr/>
          <p:nvPr/>
        </p:nvPicPr>
        <p:blipFill>
          <a:blip r:embed="rId1"/>
          <a:stretch/>
        </p:blipFill>
        <p:spPr>
          <a:xfrm>
            <a:off x="5181480" y="1692360"/>
            <a:ext cx="2173320" cy="1687320"/>
          </a:xfrm>
          <a:prstGeom prst="rect">
            <a:avLst/>
          </a:prstGeom>
          <a:ln w="0">
            <a:noFill/>
          </a:ln>
        </p:spPr>
      </p:pic>
      <p:pic>
        <p:nvPicPr>
          <p:cNvPr id="1379" name="Picture 9" descr="j0183328"/>
          <p:cNvPicPr/>
          <p:nvPr/>
        </p:nvPicPr>
        <p:blipFill>
          <a:blip r:embed="rId2"/>
          <a:stretch/>
        </p:blipFill>
        <p:spPr>
          <a:xfrm>
            <a:off x="5181480" y="3463920"/>
            <a:ext cx="2159280" cy="18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e determina nevoile noastre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685800" y="3718080"/>
            <a:ext cx="7696080" cy="17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vem cu toti aceleasi nevoi 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re sunt nevoile voastre ? Care sunt nevoile oamenilor in general 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82" name="Picture 8" descr="j0284916"/>
          <p:cNvPicPr/>
          <p:nvPr/>
        </p:nvPicPr>
        <p:blipFill>
          <a:blip r:embed="rId1"/>
          <a:stretch/>
        </p:blipFill>
        <p:spPr>
          <a:xfrm>
            <a:off x="1028880" y="1828800"/>
            <a:ext cx="3090600" cy="1766880"/>
          </a:xfrm>
          <a:prstGeom prst="rect">
            <a:avLst/>
          </a:prstGeom>
          <a:ln w="0">
            <a:noFill/>
          </a:ln>
        </p:spPr>
      </p:pic>
      <p:pic>
        <p:nvPicPr>
          <p:cNvPr id="1383" name="Picture 9" descr="j0233018"/>
          <p:cNvPicPr/>
          <p:nvPr/>
        </p:nvPicPr>
        <p:blipFill>
          <a:blip r:embed="rId2"/>
          <a:stretch/>
        </p:blipFill>
        <p:spPr>
          <a:xfrm>
            <a:off x="5486400" y="1828800"/>
            <a:ext cx="2014560" cy="176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1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evoile  BIOLOGI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85" name="Picture 9" descr="MPj04140480000[1]"/>
          <p:cNvPicPr/>
          <p:nvPr/>
        </p:nvPicPr>
        <p:blipFill>
          <a:blip r:embed="rId1"/>
          <a:stretch/>
        </p:blipFill>
        <p:spPr>
          <a:xfrm>
            <a:off x="1695600" y="182880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1386" name="Picture 10" descr="MCFD01939_0000[1]"/>
          <p:cNvPicPr/>
          <p:nvPr/>
        </p:nvPicPr>
        <p:blipFill>
          <a:blip r:embed="rId2"/>
          <a:stretch/>
        </p:blipFill>
        <p:spPr>
          <a:xfrm>
            <a:off x="1401840" y="3733920"/>
            <a:ext cx="2340000" cy="1752480"/>
          </a:xfrm>
          <a:prstGeom prst="rect">
            <a:avLst/>
          </a:prstGeom>
          <a:ln w="0">
            <a:noFill/>
          </a:ln>
        </p:spPr>
      </p:pic>
      <p:pic>
        <p:nvPicPr>
          <p:cNvPr id="1387" name="Picture 11" descr="MCj04316270000[1]"/>
          <p:cNvPicPr/>
          <p:nvPr/>
        </p:nvPicPr>
        <p:blipFill>
          <a:blip r:embed="rId3"/>
          <a:stretch/>
        </p:blipFill>
        <p:spPr>
          <a:xfrm>
            <a:off x="4495680" y="220968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evoile socia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89" name="Picture 7" descr="MCj00977690000[1]"/>
          <p:cNvPicPr/>
          <p:nvPr/>
        </p:nvPicPr>
        <p:blipFill>
          <a:blip r:embed="rId1"/>
          <a:stretch/>
        </p:blipFill>
        <p:spPr>
          <a:xfrm>
            <a:off x="1735200" y="1828800"/>
            <a:ext cx="1673280" cy="1752480"/>
          </a:xfrm>
          <a:prstGeom prst="rect">
            <a:avLst/>
          </a:prstGeom>
          <a:ln w="0">
            <a:noFill/>
          </a:ln>
        </p:spPr>
      </p:pic>
      <p:pic>
        <p:nvPicPr>
          <p:cNvPr id="1390" name="Picture 8" descr="MCED00002_0000[1]"/>
          <p:cNvPicPr/>
          <p:nvPr/>
        </p:nvPicPr>
        <p:blipFill>
          <a:blip r:embed="rId2"/>
          <a:stretch/>
        </p:blipFill>
        <p:spPr>
          <a:xfrm>
            <a:off x="1805040" y="4106880"/>
            <a:ext cx="1531800" cy="1006560"/>
          </a:xfrm>
          <a:prstGeom prst="rect">
            <a:avLst/>
          </a:prstGeom>
          <a:ln w="0">
            <a:noFill/>
          </a:ln>
        </p:spPr>
      </p:pic>
      <p:pic>
        <p:nvPicPr>
          <p:cNvPr id="1391" name="Picture 11" descr="j0300520"/>
          <p:cNvPicPr/>
          <p:nvPr/>
        </p:nvPicPr>
        <p:blipFill>
          <a:blip r:embed="rId3"/>
          <a:stretch/>
        </p:blipFill>
        <p:spPr>
          <a:xfrm>
            <a:off x="4495680" y="2209680"/>
            <a:ext cx="2781360" cy="239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48006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iramida nevoil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93" name="Picture 6" descr="untitled"/>
          <p:cNvPicPr/>
          <p:nvPr/>
        </p:nvPicPr>
        <p:blipFill>
          <a:blip r:embed="rId1"/>
          <a:stretch/>
        </p:blipFill>
        <p:spPr>
          <a:xfrm>
            <a:off x="2895480" y="1143000"/>
            <a:ext cx="5257800" cy="494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evoile si RESURSE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voile sunt strict legate de resur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ursele reprezinta toate elementele la care omul face apel pentru a-si satisface nevoil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96" name="Picture 9" descr="j0250248"/>
          <p:cNvPicPr/>
          <p:nvPr/>
        </p:nvPicPr>
        <p:blipFill>
          <a:blip r:embed="rId1"/>
          <a:stretch/>
        </p:blipFill>
        <p:spPr>
          <a:xfrm>
            <a:off x="4724280" y="1828800"/>
            <a:ext cx="355788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1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1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12-09T06:49:37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